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55E-E500-48BA-A9F2-31D9C018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897-78D1-419B-BFE7-061E59DC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B9C-7ED3-4BE9-9A08-7E5E0CFE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E8F-28DE-4DD5-B349-4664C935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95CB-1B5E-4509-8340-C5E9A9EC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97C3-2138-40B8-B6EB-1E58CC21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419A-87D5-488F-97C0-ED335FF7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ACD7-9B7D-44FF-81BC-F47667D4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EE1B-5261-4385-927A-B3EE8F2F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D7B0-3B05-4D82-891F-121FA034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8E12-2F38-4CFB-A945-3923AE6F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468-BC46-436E-A3FA-6435C39C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FEBA-1FED-4FE8-8EF9-A9B29B8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E328-D56A-4DF9-9ACE-36FC011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3B21-BA08-4988-B40E-BB4EB3A7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9979-F08D-4EFC-A799-60701799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54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2082-5D4F-4EEE-9A98-EEC7D7A0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22D-F104-4607-8A85-35EC206A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8E9-635C-475B-86FD-2D65992B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C85-CB29-4746-B9DA-AB557C7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C6D-B434-4647-9DD1-916511CB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C4B-B94F-4B4A-9D5B-70CF3A3B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54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1B2-AFD9-4C03-9EA2-6853987A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4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BC4-FCDE-4724-A4F7-0F34C2ED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51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5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5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706D-0FC2-458C-A60C-388D05168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58920"/>
            <a:ext cx="8458200" cy="3636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405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5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405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0193-4C8B-48A8-9793-8D399F2B1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21240"/>
            <a:ext cx="8458200" cy="36360"/>
          </a:xfrm>
          <a:prstGeom prst="rect">
            <a:avLst/>
          </a:prstGeom>
          <a:gradFill rotWithShape="0">
            <a:gsLst>
              <a:gs pos="0">
                <a:srgbClr val="00004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8_1.wr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8_2.wrl" TargetMode="External"/><Relationship Id="rId2" Type="http://schemas.openxmlformats.org/officeDocument/2006/relationships/hyperlink" Target="file:///8_3.wrl" TargetMode="External"/><Relationship Id="rId3" Type="http://schemas.openxmlformats.org/officeDocument/2006/relationships/hyperlink" Target="file:///8_31.wr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8_2.wrl" TargetMode="External"/><Relationship Id="rId2" Type="http://schemas.openxmlformats.org/officeDocument/2006/relationships/hyperlink" Target="file:///8_3.wrl" TargetMode="External"/><Relationship Id="rId3" Type="http://schemas.openxmlformats.org/officeDocument/2006/relationships/hyperlink" Target="file:///8_4.wrl" TargetMode="External"/><Relationship Id="rId4" Type="http://schemas.openxmlformats.org/officeDocument/2006/relationships/hyperlink" Target="file:///8_5.wrl" TargetMode="External"/><Relationship Id="rId5" Type="http://schemas.openxmlformats.org/officeDocument/2006/relationships/hyperlink" Target="file:///8_6.wrl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00"/>
                </a:solidFill>
                <a:latin typeface="Times New Roman"/>
              </a:rPr>
              <a:t>Chap 8. </a:t>
            </a:r>
            <a:r>
              <a:rPr b="1" lang="ko-KR" sz="3600" spc="-1" strike="noStrike">
                <a:solidFill>
                  <a:srgbClr val="ffff00"/>
                </a:solidFill>
                <a:latin typeface="Times New Roman"/>
              </a:rPr>
              <a:t>자바스크립트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733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동의대학교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멀티미디어공학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00"/>
                </a:solidFill>
                <a:latin typeface="Times New Roman"/>
              </a:rPr>
              <a:t>김형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 Unicode MS"/>
                <a:ea typeface="돋움"/>
              </a:rPr>
              <a:t>자바스크립트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VRML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프로그램 작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바스크립트 사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Script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exposedField MFString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url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 []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field SFBool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directOutput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 FAL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field SFBool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mustEvaluate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 FAL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# </a:t>
            </a:r>
            <a:r>
              <a:rPr b="1" i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And any number of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eventIn eventType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eventNa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field fieldType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fieldName initialValue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eventOut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eventType eventNa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}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Script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노드의 특징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: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필드의 타입이 정해져 있지 않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594-FA4F-4D50-9F4B-17EB4D4F8A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 Unicode MS"/>
                <a:ea typeface="돋움"/>
              </a:rPr>
              <a:t>자바스크립트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Hello : </a:t>
            </a:r>
            <a:r>
              <a:rPr b="0" lang="ko-KR" sz="2000" spc="-1" strike="noStrike" u="sng">
                <a:solidFill>
                  <a:srgbClr val="80ffff"/>
                </a:solidFill>
                <a:uFillTx/>
                <a:latin typeface="Times New Roman"/>
                <a:hlinkClick r:id="rId1"/>
              </a:rPr>
              <a:t>예제8.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Shape { geometry DEF inMESIZ Text {}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DEF sendMESIZ Script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eventOut MFString STR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field MFString MESIZ “HELLO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url [“javascrip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	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	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function initialize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	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STRING = MESIZ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	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	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	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}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	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ROUTE sendMESIZ.STRING TO inMESIZ.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2BA-0C30-4D21-8116-5D5F849CA5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 Unicode MS"/>
                <a:ea typeface="돋움"/>
              </a:rPr>
              <a:t>자바스크립트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Script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eventIn eventType </a:t>
            </a:r>
            <a:r>
              <a:rPr b="1" lang="ko-KR" sz="2000" spc="-1" strike="noStrike">
                <a:solidFill>
                  <a:srgbClr val="ff3300"/>
                </a:solidFill>
                <a:latin typeface="Arial Unicode MS"/>
                <a:ea typeface="돋움"/>
              </a:rPr>
              <a:t>field1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eventOut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eventType field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field fieldType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fieldName initial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exposedField MFString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url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“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javascrip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	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function </a:t>
            </a:r>
            <a:r>
              <a:rPr b="1" lang="ko-KR" sz="2000" spc="-1" strike="noStrike">
                <a:solidFill>
                  <a:srgbClr val="ff3300"/>
                </a:solidFill>
                <a:latin typeface="Arial Unicode MS"/>
                <a:ea typeface="돋움"/>
              </a:rPr>
              <a:t>field1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 (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	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]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}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돋움"/>
                <a:ea typeface="돋움"/>
              </a:rPr>
              <a:t>   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function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함수이름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(</a:t>
            </a:r>
            <a:r>
              <a:rPr b="1" lang="ko-KR" sz="2000" spc="-1" strike="noStrike">
                <a:solidFill>
                  <a:srgbClr val="ffff00"/>
                </a:solidFill>
                <a:latin typeface="굴림"/>
                <a:ea typeface="굴림"/>
              </a:rPr>
              <a:t>변수들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) {</a:t>
            </a:r>
            <a:br>
              <a:rPr sz="2000"/>
            </a:b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          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함수 기능을 수행하기 위한 명령어들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...</a:t>
            </a:r>
            <a:br>
              <a:rPr sz="2000"/>
            </a:b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     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돋움"/>
                <a:ea typeface="돋움"/>
              </a:rPr>
              <a:t> 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8E1-F310-471B-81CA-37E8AA3F77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 Unicode MS"/>
                <a:ea typeface="돋움"/>
              </a:rPr>
              <a:t>자바스크립트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돋움"/>
                <a:ea typeface="돋움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function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함수이름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(</a:t>
            </a:r>
            <a:r>
              <a:rPr b="1" lang="ko-KR" sz="2000" spc="-1" strike="noStrike">
                <a:solidFill>
                  <a:srgbClr val="ffff00"/>
                </a:solidFill>
                <a:latin typeface="굴림"/>
              </a:rPr>
              <a:t>변수들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) {</a:t>
            </a:r>
            <a:br>
              <a:rPr sz="2000"/>
            </a:b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          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함수 기능을 수행하기 위한 명령어들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...</a:t>
            </a:r>
            <a:br>
              <a:rPr sz="2000"/>
            </a:b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 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굴림"/>
                <a:ea typeface="굴림"/>
              </a:rPr>
              <a:t>함수의 이름은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eventIn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필드의 이름과 동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기본 예제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80ffff"/>
                </a:solidFill>
                <a:uFillTx/>
                <a:latin typeface="Times New Roman"/>
                <a:ea typeface="굴림"/>
                <a:hlinkClick r:id="rId1"/>
              </a:rPr>
              <a:t>예제8.2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  <a:ea typeface="굴림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80ffff"/>
                </a:solidFill>
                <a:uFillTx/>
                <a:latin typeface="Times New Roman"/>
                <a:ea typeface="굴림"/>
                <a:hlinkClick r:id="rId2"/>
              </a:rPr>
              <a:t>예제 8.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80ffff"/>
                </a:solidFill>
                <a:uFillTx/>
                <a:latin typeface="Times New Roman"/>
                <a:ea typeface="굴림"/>
                <a:hlinkClick r:id="rId3"/>
              </a:rPr>
              <a:t>예제8.3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7F9-D926-49B9-A421-F844455C78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 Unicode MS"/>
                <a:ea typeface="돋움"/>
              </a:rPr>
              <a:t>자바스크립트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사건이 있는 예제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ko-KR" sz="2000" spc="-1" strike="noStrike" u="sng">
                <a:solidFill>
                  <a:srgbClr val="80ffff"/>
                </a:solidFill>
                <a:uFillTx/>
                <a:latin typeface="Times New Roman"/>
                <a:hlinkClick r:id="rId1"/>
              </a:rPr>
              <a:t>예제8.2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ko-KR" sz="2000" spc="-1" strike="noStrike" u="sng">
                <a:solidFill>
                  <a:srgbClr val="80ffff"/>
                </a:solidFill>
                <a:uFillTx/>
                <a:latin typeface="Times New Roman"/>
                <a:hlinkClick r:id="rId2"/>
              </a:rPr>
              <a:t>예제 8.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형태 바꾸기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ko-KR" sz="2000" spc="-1" strike="noStrike" u="sng">
                <a:solidFill>
                  <a:srgbClr val="80ffff"/>
                </a:solidFill>
                <a:uFillTx/>
                <a:latin typeface="Times New Roman"/>
                <a:hlinkClick r:id="rId3"/>
              </a:rPr>
              <a:t>예제 8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위치 바꾸기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ko-KR" sz="2000" spc="-1" strike="noStrike" u="sng">
                <a:solidFill>
                  <a:srgbClr val="80ffff"/>
                </a:solidFill>
                <a:uFillTx/>
                <a:latin typeface="Times New Roman"/>
                <a:hlinkClick r:id="rId4"/>
              </a:rPr>
              <a:t>예제 8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이미지 바꾸기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ko-KR" sz="2000" spc="-1" strike="noStrike" u="sng">
                <a:solidFill>
                  <a:srgbClr val="80ffff"/>
                </a:solidFill>
                <a:uFillTx/>
                <a:latin typeface="Times New Roman"/>
                <a:hlinkClick r:id="rId5"/>
              </a:rPr>
              <a:t>예제 8.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loadURL() :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예제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8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getName() :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예제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8.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getCurrentSpeed( ) : 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예제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8.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예제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8.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A15-716A-4D54-98E7-4138878664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돋움"/>
              </a:rPr>
              <a:t>Switch </a:t>
            </a: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돋움"/>
              </a:rPr>
              <a:t>노드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Switch 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exposedField MFNode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choice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 []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exposedField SFInt32 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whichChice</a:t>
            </a: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 -1</a:t>
            </a:r>
            <a:r>
              <a:rPr b="1" lang="ko-KR" sz="2000" spc="-1" strike="noStrike">
                <a:solidFill>
                  <a:srgbClr val="ffffff"/>
                </a:solidFill>
                <a:latin typeface="Arial Unicode MS"/>
                <a:ea typeface="돋움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Arial Unicode MS"/>
                <a:ea typeface="돋움"/>
              </a:rPr>
              <a:t>}</a:t>
            </a: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 Unicode MS"/>
                <a:ea typeface="돋움"/>
              </a:rPr>
              <a:t>choice</a:t>
            </a:r>
            <a:r>
              <a:rPr b="1" lang="ko-KR" sz="18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1800" spc="-1" strike="noStrike">
                <a:solidFill>
                  <a:srgbClr val="ffff00"/>
                </a:solidFill>
                <a:latin typeface="돋움"/>
                <a:ea typeface="돋움"/>
              </a:rPr>
              <a:t>필드에 등록된 여러 개 중에서 선택할 때 사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 Unicode MS"/>
                <a:ea typeface="돋움"/>
              </a:rPr>
              <a:t>whichChice </a:t>
            </a:r>
            <a:r>
              <a:rPr b="1" lang="ko-KR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값은 </a:t>
            </a:r>
            <a:r>
              <a:rPr b="1" lang="ko-KR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choice</a:t>
            </a:r>
            <a:r>
              <a:rPr b="1" lang="ko-KR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에 있는 대상들의 번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첫번째 </a:t>
            </a:r>
            <a:r>
              <a:rPr b="1" lang="ko-KR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: 0, </a:t>
            </a:r>
            <a:r>
              <a:rPr b="1" lang="ko-KR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두 번째 </a:t>
            </a:r>
            <a:r>
              <a:rPr b="1" lang="ko-KR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: 1 ,  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-1 : </a:t>
            </a:r>
            <a:r>
              <a:rPr b="1" lang="ko-KR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아무 것도 선택하지 않은 결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40E-6BDF-41E1-A7D1-92196C598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  <a:ea typeface="돋움"/>
              </a:rPr>
              <a:t>Switch </a:t>
            </a:r>
            <a:r>
              <a:rPr b="1" lang="zh-CN" sz="3200" spc="-1" strike="noStrike">
                <a:solidFill>
                  <a:srgbClr val="ffffff"/>
                </a:solidFill>
                <a:latin typeface="Arial Unicode MS"/>
                <a:ea typeface="돋움"/>
              </a:rPr>
              <a:t>노드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물체를 클릭하면 다른 글자를 보여주는 예제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8.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문제에 대한 옳은 답을 선택하는 예제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8.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상태 바에 메시지 보내기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: </a:t>
            </a: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예제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8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날짜와 요일 표시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: </a:t>
            </a: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예제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8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경고 창 띄우기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: </a:t>
            </a: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예제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8.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현재 시간 표시 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: </a:t>
            </a:r>
            <a:r>
              <a:rPr b="1" lang="zh-CN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예제 </a:t>
            </a:r>
            <a:r>
              <a:rPr b="1" lang="en-US" sz="1800" spc="-1" strike="noStrike">
                <a:solidFill>
                  <a:srgbClr val="ffff00"/>
                </a:solidFill>
                <a:latin typeface="Arial Unicode MS"/>
                <a:ea typeface="돋움"/>
              </a:rPr>
              <a:t>8.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346-6680-43D9-9B79-9BF44ACB27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03:29:59Z</dcterms:created>
  <dc:creator>Hyoung Seok Kim</dc:creator>
  <dc:description/>
  <dc:language>en-US</dc:language>
  <cp:lastModifiedBy>김형석</cp:lastModifiedBy>
  <dcterms:modified xsi:type="dcterms:W3CDTF">2003-11-17T12:27:27Z</dcterms:modified>
  <cp:revision>124</cp:revision>
  <dc:subject/>
  <dc:title>Chap 3</dc:title>
</cp:coreProperties>
</file>